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5B78-F0E4-496D-A08E-D9B12F5A0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14FA-9A8A-4664-9F5C-A87891E8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D4D1-76C9-44CC-A771-D39909B71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74EE-4350-4E86-854D-C8605B61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DEF9-B2F6-43FD-BAA2-F8EDFEF2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8DAA-D1C8-400B-86A5-61CAED65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D419-6A95-412A-BBF9-E790759C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2912-CE32-4D7E-B32B-BE412A25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4C3B-B820-4D6E-824E-9AF2CCC1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ECD9-51DC-47BC-875A-99B40239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04C5-9398-4BF5-9086-A747D6A6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D8CD-2E66-4638-85F5-36E87FF8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0D27-2CB1-45D9-B050-0BFDA94CA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8:28:38Z</dcterms:created>
  <dc:creator>abeason</dc:creator>
  <dc:description/>
  <dc:language>en-US</dc:language>
  <cp:lastModifiedBy>abeason</cp:lastModifiedBy>
  <dcterms:modified xsi:type="dcterms:W3CDTF">2008-12-10T18:29:12Z</dcterms:modified>
  <cp:revision>2</cp:revision>
  <dc:subject/>
  <dc:title>Slide 1</dc:title>
</cp:coreProperties>
</file>